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F51F3-17B0-4D7D-BDCA-0BB605127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F5B28-71A3-4A07-BCB4-86A35411C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9CF1DB-1090-4032-B279-2C1C0DD49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2B7A2-07AB-49BE-A08A-5EA9D5DF7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123FDF-94C0-43F8-8A56-4B9FE8A844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E6B49-F4B7-441B-9D72-1550B3FA7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202A3A-AA03-4FA3-9187-F8A70EABF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D88AAB-163B-4B2D-8225-01984EBEA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5DAAF2-0E66-4C03-969D-40D61193F8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266B51-F8E3-44C3-8BE3-B717D041A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D89A2-4804-4F63-AD41-C559FB1A1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019D1-FD10-4106-BE81-EFA28D1CD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1DA06-C512-4C9C-9C7E-6112D44CF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616E1-8268-4DA1-9ED8-403A54DC7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7C720A-D72C-4C30-A03A-ADEC315C6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AFC603-6043-4A1D-B4C1-915E0F8959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69C21B-87CE-4FDF-A730-1F7BE36987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B1CCC03-7B1B-4877-B48A-4E460F8163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D3DB044-18B7-4AEA-B1C0-50EFCF3572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7859387-21BA-47D9-B53F-ACC699EFC7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148FECE-2273-45C6-9E0F-94E03A2447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72808AB-B882-46C0-B9AA-7CAC84DF28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39032-7A52-4585-B862-37D94B3E8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431A148-86C8-4406-961A-0F4C86FABD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7F61074-2D19-4C13-B109-AFF1BE6D51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7DBD8FE-5499-408F-8947-FB584F34F7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9C4CFA2-A1C6-48CF-A2D4-A3BDC49AC4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DBD4690-5E7A-457B-836D-F782BD620D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C661DA7-BBB6-407A-86B9-44B644AC02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C5B9B01-F587-4901-A292-F39B30BCE0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CC77769-6CB8-480C-9C45-E3893FA6C9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A209D9E-5BEF-4A38-AA0E-FABEF70E70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8C400DA-A7FC-4E5A-8392-1B5EDBCA13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D1EC5-A33B-4AAB-9346-4FD792E88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9BA86DC-5865-45DE-BA20-2B99F30FF6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EC1DBED-F443-4717-A7F9-349EED1AAB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7A3288C-43FA-41D6-ADF7-6B6BCE67CD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650DB3F-DC35-4CC7-B559-A6DCD150AF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304AD22-2113-49AE-9A57-2ABCC25DFA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968A6FF-5E02-427C-8039-4704B6ABF9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69BEA8F-0F5C-47A7-988B-6DB50A463E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11D8F6E-49B2-4B7F-B09A-8AF90AC618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171DE44-345B-4A04-B2BB-4FAFCFF42F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C29EB61-6B52-47A6-A74B-A8686018A7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895ED-D256-4960-86EF-43CBCD3B7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29ED050-2FF8-4465-8BFD-1AF43EE4A6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450040D-318E-40E3-AF7F-A1F9421973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F2FC44B-4ECC-4918-8627-47E08FE502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7B0A4B2-5F64-46CB-8EFF-78CA16455E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8EFA1C6-46A2-4580-ABDD-5E1B61D3A0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905C723-B396-4DEF-9DC8-4B668F3F6A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FCC8454-DD62-41DC-A95C-3498749237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C3AEA40-F1BB-445D-88CB-7E2F2E2F61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63D6311-5CB8-48D1-91AB-3B3476F107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64F254D-05E4-40D2-B002-4868B3590E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2BFEC-4778-4C51-9058-7E14BD996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E1E7F65-FE65-467C-9D74-7E5DD80D2B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A550A2-B57B-4666-9756-00444514AE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C81E37-AE93-4A53-9AFB-3315A3EEC9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E1975D-9746-4564-9FDB-BB3A8C3097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5B62F5-33E2-414E-A3EA-D1EFC9B294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428A08-917D-460A-8085-E6538B3D40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43BDF9-441E-4003-A10A-3AF669953A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8C9992-20E4-4968-AEF5-F5E72F8A80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D57C06-4FDE-41A0-8B33-B13948CE69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277CA9-F5D1-43C6-8960-0C062AEB3D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371AC-8250-420C-B2B1-F217B9DFB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515670-AC65-46F3-9EFA-D9A2F6F4B2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B30483-38A4-41FF-9185-36381F8111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CD53D3-77C2-4600-BAEB-70C0DFAE66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A8A2CF2-EAD8-46ED-901E-318F5F4EDF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B4E120C-F8C7-467F-B6CD-C523B9155C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BDAAF59-7F3E-40F6-87B9-5927E06406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796F1C1-F8C3-4CD9-89F7-F504FD3154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3645115-2B16-4B04-9584-5383E5E553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BC36AD3-02F4-4084-9164-BF7A8D3BE8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ECB0222-D210-477B-ABDF-0DF6081AD7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1CABA-06CA-4269-803F-DB15751F2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E93E3DA-4DFB-432D-A821-5AEFB999CD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C111A9C-88A5-4241-8941-CC388F48B2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8AFBDE3-C4AC-4A60-A0FD-32EF407D39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CAF0207-6778-4F74-B4FE-782BC4DAFF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5C833F5-ACA1-41FA-922C-A75E50C8FA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6DEAA5-B8A8-4A49-B67D-CE647606D2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55E532-5CE0-4156-A4F1-490A262A0B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29BED2-E85D-4B85-96A8-DF667CE68B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68EBB0-9C3A-409B-AAE4-D1D14858AB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98A953-2B92-42B7-935B-F460093622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E9B53-EA11-4BA6-8067-CBA82B78F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1F710F-BDC3-4D35-BE47-A398AF08A4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F66C6C-5849-4B2C-9FCB-CC097C67ED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A7EFB1-A84E-47AE-954F-78914733E2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45F4F5-4870-468B-BBEF-88C7474DF1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ABA01F-6507-4263-9306-30B6B85284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D48C6C7-B744-489F-B054-4681931C02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2B87580-AB04-4BE2-AA3C-CD0C6F42FC8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45BE1-8A59-415F-B380-6A1608E1590C}"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B9325-4388-43CC-8B78-075F764ECA7D}"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F77FF-396C-421B-A013-14028566985C}"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2DF58-AE0C-4D0F-91CE-1E6E282AA96E}"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B84E4-EB50-448D-A740-681517F9D442}"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FC8C8-2079-49F9-859D-8613722F2E38}"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76052-87EC-481A-A6E0-328D26F26C3F}"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01469-8B94-4EF2-B425-D0316BC4B316}"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DEVELOPING AS A PROFESSIONAL</a:t>
            </a:r>
            <a:r>
              <a:rPr b="0" lang="en-US" sz="4400" spc="-1" strike="noStrike">
                <a:solidFill>
                  <a:srgbClr val="ebddc3"/>
                </a:solidFill>
                <a:latin typeface="Tw Cen MT"/>
              </a:rPr>
              <a:t>	</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Chapter 2, EDF 1005</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What to do NOW to become more professional</a:t>
            </a:r>
            <a:r>
              <a:rPr b="0" lang="en-US" sz="4000" spc="-1" strike="noStrike">
                <a:solidFill>
                  <a:srgbClr val="775f55"/>
                </a:solidFill>
                <a:latin typeface="Tw Cen MT"/>
              </a:rPr>
              <a:t>	</a:t>
            </a:r>
            <a:endParaRPr b="0" lang="en-US" sz="4000" spc="-1" strike="noStrike">
              <a:solidFill>
                <a:srgbClr val="775f55"/>
              </a:solidFill>
              <a:latin typeface="Tw Cen MT"/>
            </a:endParaRPr>
          </a:p>
        </p:txBody>
      </p:sp>
      <p:sp>
        <p:nvSpPr>
          <p:cNvPr id="36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uild a portfolio and resum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uild a credentials file (letters of recommendation, field experience evaluations, grades, work evaluations, etc.)</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Join a professional organization (p.58)</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ink about…</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371"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onsider where you want to teach and in what kind of school you can see yourself. When choosing a school, evaluate the following:</a:t>
            </a:r>
            <a:endParaRPr b="0" lang="en-US" sz="27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eacher morale and efficacy</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mmitment and leadership of principal (and longevity- is he/she about to retire? )</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chool mission</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chool climate</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physical plant</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tudent behavior (and support of discipline)</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mmunity support / parent support</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n induction /mentor program for new teachers</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612720" y="304920"/>
            <a:ext cx="8153280" cy="5790960"/>
          </a:xfrm>
          <a:prstGeom prst="rect">
            <a:avLst/>
          </a:prstGeom>
          <a:noFill/>
          <a:ln w="0">
            <a:noFill/>
          </a:ln>
        </p:spPr>
        <p:txBody>
          <a:bodyPr anchor="t">
            <a:normAutofit fontScale="94000"/>
          </a:bodyPr>
          <a:p>
            <a:pPr marL="299520" indent="-299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PRIVATE</a:t>
            </a:r>
            <a:endParaRPr b="0" lang="en-US" sz="25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Private schools typically pay about 30% less than public schools (starting salaries) and have fewer, if any, benefits. </a:t>
            </a:r>
            <a:endParaRPr b="0" lang="en-US" sz="25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Private schools, because of tuition, often attract more affluent families.</a:t>
            </a:r>
            <a:endParaRPr b="0" lang="en-US" sz="25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More than 75% of private schools are religious in nature. </a:t>
            </a:r>
            <a:endParaRPr b="0" lang="en-US" sz="25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Communication is more idea because everything is smaller.</a:t>
            </a:r>
            <a:endParaRPr b="0" lang="en-US" sz="25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Students are more involved in school activities (again, population related).</a:t>
            </a:r>
            <a:endParaRPr b="0" lang="en-US" sz="25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However, private school are more than twice as likely to leave teaching when compared to their public school counterparts. More than half also transfer to public schools during their career. </a:t>
            </a: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Your first year</a:t>
            </a:r>
            <a:endParaRPr b="0" lang="en-US" sz="4400" spc="-1" strike="noStrike">
              <a:solidFill>
                <a:srgbClr val="775f55"/>
              </a:solidFill>
              <a:latin typeface="Tw Cen MT"/>
            </a:endParaRPr>
          </a:p>
        </p:txBody>
      </p:sp>
      <p:sp>
        <p:nvSpPr>
          <p:cNvPr id="37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ad the yellow box on page 49. Discus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n read the yellow box at the top of page 50.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rvival skills</a:t>
            </a:r>
            <a:endParaRPr b="0" lang="en-US" sz="4400" spc="-1" strike="noStrike">
              <a:solidFill>
                <a:srgbClr val="775f55"/>
              </a:solidFill>
              <a:latin typeface="Tw Cen MT"/>
            </a:endParaRPr>
          </a:p>
        </p:txBody>
      </p:sp>
      <p:sp>
        <p:nvSpPr>
          <p:cNvPr id="376" name=""/>
          <p:cNvSpPr txBox="1"/>
          <p:nvPr/>
        </p:nvSpPr>
        <p:spPr>
          <a:xfrm>
            <a:off x="612720" y="1600200"/>
            <a:ext cx="8153280" cy="4495680"/>
          </a:xfrm>
          <a:prstGeom prst="rect">
            <a:avLst/>
          </a:prstGeom>
          <a:noFill/>
          <a:ln w="0">
            <a:noFill/>
          </a:ln>
        </p:spPr>
        <p:txBody>
          <a:bodyPr anchor="t">
            <a:normAutofit fontScale="94000"/>
          </a:bodyPr>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1. </a:t>
            </a:r>
            <a:r>
              <a:rPr b="0" lang="en-US" sz="2700" spc="-1" strike="noStrike">
                <a:solidFill>
                  <a:srgbClr val="ff0000"/>
                </a:solidFill>
                <a:latin typeface="Tw Cen MT"/>
              </a:rPr>
              <a:t>Organization</a:t>
            </a:r>
            <a:endParaRPr b="0" lang="en-US" sz="2700" spc="-1" strike="noStrike">
              <a:solidFill>
                <a:srgbClr val="000000"/>
              </a:solidFill>
              <a:latin typeface="Tw Cen MT"/>
            </a:endParaRPr>
          </a:p>
          <a:p>
            <a:pPr lvl="1" marL="601200" indent="-2563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ime, materials, lessons, having routines for yourself and your students</a:t>
            </a:r>
            <a:endParaRPr b="0" lang="en-US" sz="24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2. </a:t>
            </a:r>
            <a:r>
              <a:rPr b="0" lang="en-US" sz="2700" spc="-1" strike="noStrike">
                <a:solidFill>
                  <a:srgbClr val="ff0000"/>
                </a:solidFill>
                <a:latin typeface="Tw Cen MT"/>
              </a:rPr>
              <a:t>Classroom management</a:t>
            </a:r>
            <a:endParaRPr b="0" lang="en-US" sz="2700" spc="-1" strike="noStrike">
              <a:solidFill>
                <a:srgbClr val="000000"/>
              </a:solidFill>
              <a:latin typeface="Tw Cen MT"/>
            </a:endParaRPr>
          </a:p>
          <a:p>
            <a:pPr lvl="1" marL="601200" indent="-2563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BSOLUTE KEY. Kids cannot learn if behavior is too out of control. </a:t>
            </a:r>
            <a:endParaRPr b="0" lang="en-US" sz="24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3. </a:t>
            </a:r>
            <a:r>
              <a:rPr b="0" lang="en-US" sz="2700" spc="-1" strike="noStrike">
                <a:solidFill>
                  <a:srgbClr val="ff0000"/>
                </a:solidFill>
                <a:latin typeface="Tw Cen MT"/>
              </a:rPr>
              <a:t>Teaching effectively</a:t>
            </a:r>
            <a:endParaRPr b="0" lang="en-US" sz="2700" spc="-1" strike="noStrike">
              <a:solidFill>
                <a:srgbClr val="000000"/>
              </a:solidFill>
              <a:latin typeface="Tw Cen MT"/>
            </a:endParaRPr>
          </a:p>
          <a:p>
            <a:pPr lvl="1" marL="601200" indent="-2563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Bored kids misbehave and don’t learn. Effective teaching captivates attention and interest, leading to learning.</a:t>
            </a:r>
            <a:endParaRPr b="0" lang="en-US" sz="24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4</a:t>
            </a:r>
            <a:r>
              <a:rPr b="0" lang="en-US" sz="2700" spc="-1" strike="noStrike">
                <a:solidFill>
                  <a:srgbClr val="ff0000"/>
                </a:solidFill>
                <a:latin typeface="Tw Cen MT"/>
              </a:rPr>
              <a:t>. Knowing your students</a:t>
            </a:r>
            <a:r>
              <a:rPr b="0" lang="en-US" sz="2700" spc="-1" strike="noStrike">
                <a:solidFill>
                  <a:srgbClr val="000000"/>
                </a:solidFill>
                <a:latin typeface="Tw Cen MT"/>
              </a:rPr>
              <a:t>.</a:t>
            </a:r>
            <a:endParaRPr b="0" lang="en-US" sz="2700" spc="-1" strike="noStrike">
              <a:solidFill>
                <a:srgbClr val="000000"/>
              </a:solidFill>
              <a:latin typeface="Tw Cen MT"/>
            </a:endParaRPr>
          </a:p>
          <a:p>
            <a:pPr lvl="1" marL="601200" indent="-2563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on’t just know their names. KNOW THE STUDENT.</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nduction programs / Mentors</a:t>
            </a:r>
            <a:endParaRPr b="0" lang="en-US" sz="4400" spc="-1" strike="noStrike">
              <a:solidFill>
                <a:srgbClr val="775f55"/>
              </a:solidFill>
              <a:latin typeface="Tw Cen MT"/>
            </a:endParaRPr>
          </a:p>
        </p:txBody>
      </p:sp>
      <p:sp>
        <p:nvSpPr>
          <p:cNvPr id="378" name=""/>
          <p:cNvSpPr txBox="1"/>
          <p:nvPr/>
        </p:nvSpPr>
        <p:spPr>
          <a:xfrm>
            <a:off x="612720" y="1600200"/>
            <a:ext cx="8153280" cy="4495680"/>
          </a:xfrm>
          <a:prstGeom prst="rect">
            <a:avLst/>
          </a:prstGeom>
          <a:noFill/>
          <a:ln w="0">
            <a:noFill/>
          </a:ln>
        </p:spPr>
        <p:txBody>
          <a:bodyPr anchor="t">
            <a:normAutofit fontScale="87000"/>
          </a:bodyPr>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Vary by county, implementation can vary by schools</a:t>
            </a:r>
            <a:endParaRPr b="0" lang="en-US" sz="2900" spc="-1" strike="noStrike">
              <a:solidFill>
                <a:srgbClr val="000000"/>
              </a:solidFill>
              <a:latin typeface="Tw Cen MT"/>
            </a:endParaRPr>
          </a:p>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duction programs can be staff development and workshops all first year teachers are required to attend to make sure everyone is “doing okay” and understands they ways of the county. (However, this means more time commitment, more paperwork, and something else on your long list to do…)</a:t>
            </a:r>
            <a:endParaRPr b="0" lang="en-US" sz="2900" spc="-1" strike="noStrike">
              <a:solidFill>
                <a:srgbClr val="000000"/>
              </a:solidFill>
              <a:latin typeface="Tw Cen MT"/>
            </a:endParaRPr>
          </a:p>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entors- someone in your school to “guide you” and be an emotional support as well.</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Will I be evaluated? </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38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You better believe it!</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dividual Professional Development Plans</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ormal observations (2-3 your first year; pre-observation meeting, observation, and post-observation meeting)</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formal “walk throughs”</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Long term career professional development</a:t>
            </a:r>
            <a:endParaRPr b="0" lang="en-US" sz="4000" spc="-1" strike="noStrike">
              <a:solidFill>
                <a:srgbClr val="775f55"/>
              </a:solidFill>
              <a:latin typeface="Tw Cen MT"/>
            </a:endParaRPr>
          </a:p>
        </p:txBody>
      </p:sp>
      <p:sp>
        <p:nvSpPr>
          <p:cNvPr id="38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ational Board certifica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eacher- Leader</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urriculum committees</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AC</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Grants</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Lead professional development for others</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ction research</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igher degrees (master’s, specialist, doctorate)</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indset shift</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35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ne of the most important things you need to do as an education student is begin to shift your mindset.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p until and including now, you view things from a student’s perspective. You need to begin to view things from a teacher’s perspective, especially when you are in the classroom (both college and field experience).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Common beliefs of pre-service and beginning teachers</a:t>
            </a:r>
            <a:r>
              <a:rPr b="0" lang="en-US" sz="4000" spc="-1" strike="noStrike">
                <a:solidFill>
                  <a:srgbClr val="775f55"/>
                </a:solidFill>
                <a:latin typeface="Tw Cen MT"/>
              </a:rPr>
              <a:t>	</a:t>
            </a:r>
            <a:endParaRPr b="0" lang="en-US" sz="40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elief 1: “When I begin teaching, I will be a better teacher than most of the teachers now in the field.”</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elief 2: “As I gain experience in teaching, I expect to become more confident in my ability to help children learn.”</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mmon beliefs</a:t>
            </a:r>
            <a:endParaRPr b="0" lang="en-US" sz="4400" spc="-1" strike="noStrike">
              <a:solidFill>
                <a:srgbClr val="775f55"/>
              </a:solidFill>
              <a:latin typeface="Tw Cen MT"/>
            </a:endParaRPr>
          </a:p>
        </p:txBody>
      </p:sp>
      <p:sp>
        <p:nvSpPr>
          <p:cNvPr id="357" name=""/>
          <p:cNvSpPr txBox="1"/>
          <p:nvPr/>
        </p:nvSpPr>
        <p:spPr>
          <a:xfrm>
            <a:off x="612720" y="1600200"/>
            <a:ext cx="8153280" cy="4495680"/>
          </a:xfrm>
          <a:prstGeom prst="rect">
            <a:avLst/>
          </a:prstGeom>
          <a:noFill/>
          <a:ln w="0">
            <a:noFill/>
          </a:ln>
        </p:spPr>
        <p:txBody>
          <a:bodyPr anchor="t">
            <a:normAutofit fontScale="99000"/>
          </a:bodyPr>
          <a:p>
            <a:pPr marL="315720" indent="-3157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Belief 3: “The most effective teachers are those best able to clearly explain the content they teach their students.”</a:t>
            </a:r>
            <a:endParaRPr b="0" lang="en-US" sz="2700" spc="-1" strike="noStrike">
              <a:solidFill>
                <a:srgbClr val="000000"/>
              </a:solidFill>
              <a:latin typeface="Tw Cen MT"/>
            </a:endParaRPr>
          </a:p>
          <a:p>
            <a:pPr marL="315720" indent="-3157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5720" indent="-3157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Belief 4: “I will learn about most of the important aspects of teaching when I get into a classroom.”</a:t>
            </a:r>
            <a:endParaRPr b="0" lang="en-US" sz="2700" spc="-1" strike="noStrike">
              <a:solidFill>
                <a:srgbClr val="000000"/>
              </a:solidFill>
              <a:latin typeface="Tw Cen MT"/>
            </a:endParaRPr>
          </a:p>
          <a:p>
            <a:pPr marL="315720" indent="-3157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5720" indent="-3157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Belief 5: “If I thoroughly understand the content I’m teaching, I’ll be able to figure out a way of getting it across to my students.”</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art</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35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ook at the chart in figure 2.1 on page 35. What does this show you?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Getting started: Licensing</a:t>
            </a:r>
            <a:endParaRPr b="0" lang="en-US" sz="44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raditional licensure-</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Degree in a bachelor’s program, complete with student teaching</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ests (GK, Professional, and Subject Area(s))</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Process varies by state</a:t>
            </a:r>
            <a:endParaRPr b="0" lang="en-US" sz="26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lternative Licensure:</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 shorter route available for those who already have a bachelor’s in another field</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re classes, number varies by state</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Little to no classroom experience prior to getting license</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ignificantly higher “dropout” rates; “Alt. Cert” (alternative certificate) teachers don’t make it as well as traditional certificate teachers. </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What to do NOW to become more professional</a:t>
            </a:r>
            <a:r>
              <a:rPr b="0" lang="en-US" sz="4000" spc="-1" strike="noStrike">
                <a:solidFill>
                  <a:srgbClr val="775f55"/>
                </a:solidFill>
                <a:latin typeface="Tw Cen MT"/>
              </a:rPr>
              <a:t>	</a:t>
            </a:r>
            <a:endParaRPr b="0" lang="en-US" sz="40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Develop a professional reputation</a:t>
            </a:r>
            <a:endParaRPr b="0" lang="en-US" sz="27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Facebook, Twitter, MySpace, etc.</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ttend classes, be on time, be prepared. </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urn in assignments on time, follow guidelines</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articipate. Engage. Show you care and are learning.</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ake every opportunity to learn something new. </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Read and try to stay well informed. </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acticum (Field Experience) behavior</a:t>
            </a:r>
            <a:endParaRPr b="0" lang="en-US" sz="24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Thank you notes, professional dress, take initiative</a:t>
            </a:r>
            <a:endParaRPr b="0" lang="en-US" sz="21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YOU NEVER KNOW WHO YOUR FUTURE PRINCIPAL  (or colleague or parent of a student, etc.) WILL BE!</a:t>
            </a:r>
            <a:endParaRPr b="0" lang="en-US" sz="21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What to do NOW to become more professional</a:t>
            </a:r>
            <a:r>
              <a:rPr b="0" lang="en-US" sz="4000" spc="-1" strike="noStrike">
                <a:solidFill>
                  <a:srgbClr val="775f55"/>
                </a:solidFill>
                <a:latin typeface="Tw Cen MT"/>
              </a:rPr>
              <a:t>	</a:t>
            </a:r>
            <a:endParaRPr b="0" lang="en-US" sz="4000" spc="-1" strike="noStrike">
              <a:solidFill>
                <a:srgbClr val="775f55"/>
              </a:solidFill>
              <a:latin typeface="Tw Cen MT"/>
            </a:endParaRPr>
          </a:p>
        </p:txBody>
      </p:sp>
      <p:sp>
        <p:nvSpPr>
          <p:cNvPr id="367"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Broaden your professional experiences.</a:t>
            </a:r>
            <a:endParaRPr b="0" lang="en-US" sz="27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utor</a:t>
            </a:r>
            <a:endParaRPr b="0" lang="en-US" sz="24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Get a minor in a critical area.</a:t>
            </a:r>
            <a:endParaRPr b="0" lang="en-US" sz="24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Get as many endorsements and certificates as you can. Up your qualifications.</a:t>
            </a:r>
            <a:endParaRPr b="0" lang="en-US" sz="24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eek leadership positions (Student Government, Pre-service Teachers Association, etc.)</a:t>
            </a:r>
            <a:endParaRPr b="0" lang="en-US" sz="24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Volunteer at local schools</a:t>
            </a:r>
            <a:endParaRPr b="0" lang="en-US" sz="24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Become a mentor for a student</a:t>
            </a:r>
            <a:endParaRPr b="0" lang="en-US" sz="24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Become an aide</a:t>
            </a:r>
            <a:endParaRPr b="0" lang="en-US" sz="24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Look for jobs that you can begin practicing your skills</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7T03:05:59Z</dcterms:created>
  <dc:creator>Amy B Bowden</dc:creator>
  <dc:description/>
  <dc:language>en-US</dc:language>
  <cp:lastModifiedBy>Chris Brown</cp:lastModifiedBy>
  <dcterms:modified xsi:type="dcterms:W3CDTF">2011-08-31T21:46:39Z</dcterms:modified>
  <cp:revision>2</cp:revision>
  <dc:subject/>
  <dc:title>Developing as a Professional </dc:title>
</cp:coreProperties>
</file>